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9AE-B60F-4DCC-A423-54533DBC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443-FAA9-4CEA-A904-901FEA09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B23-41C9-4D4B-885A-C8684A64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7C0-8C68-4FB2-B32A-75093E6F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CF4-A6FE-447A-93C7-2DE4E559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D15-514E-43CD-9F9F-B41FE614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21E-A5D0-4E91-99C1-AEAF520B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A1B-6F14-4D71-97F4-53304E08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747-D960-4865-87AD-4DA3022C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AB3-98AE-4257-9028-243300A6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BF9-2A48-440B-AF20-FDF8D36C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839-8E5C-4C01-8296-9F9A71B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4168-3BDF-429B-AB9A-6B4EA6450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44280"/>
            <a:ext cx="460836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28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сичко тръпне в красота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ивно еква песента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 дома чезне облак лих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мир владее и усмих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ам живот щастлив е, тих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920" y="4508640"/>
            <a:ext cx="3635280" cy="376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дома, във дом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же времето ле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00720" cy="691812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в най-беден скромен дом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уй се радостен псалом -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там любов цари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Щастие всякъде трепти, сладост всичко ни шеп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роза в бурени цъф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4508640"/>
            <a:ext cx="3635280" cy="376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дома, във дом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же времето ле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8320" y="503280"/>
            <a:ext cx="2894040" cy="4365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52" name=""/>
          <p:cNvSpPr/>
          <p:nvPr/>
        </p:nvSpPr>
        <p:spPr>
          <a:xfrm>
            <a:off x="4211640" y="2060640"/>
            <a:ext cx="4465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сичко радва се и смей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;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доволство там владей,                     де любов цари!                                         Сладко пей планински вир               и усмихва се безспир синята безмерна шир,                 де любов цар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920" y="4508640"/>
            <a:ext cx="3635280" cy="37602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ccff99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ъв дома, във дома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бърже времето лети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де любов ца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1:04:33Z</dcterms:created>
  <dc:creator>TrifonTrifonow</dc:creator>
  <dc:description/>
  <dc:language>en-US</dc:language>
  <cp:lastModifiedBy>TrifonTrifonow</cp:lastModifiedBy>
  <dcterms:modified xsi:type="dcterms:W3CDTF">2005-12-14T21:35:46Z</dcterms:modified>
  <cp:revision>10</cp:revision>
  <dc:subject/>
  <dc:title>Slide 1</dc:title>
</cp:coreProperties>
</file>